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82F3-383E-4A89-9007-9606D4DBD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09E8-B83F-4B9A-B84C-FE2B5FDB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D961-5A3C-469A-9B5F-815908467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60E7-DAFE-4DF9-9E06-2955C92F3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706F-4C79-4C32-AE0E-3A735CA8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5399-F3F6-4389-B7AC-1AA0C5A1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34DE-C5D6-470B-B437-B5229990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342A-8AE8-4B5D-B89F-F4E58D53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4666-EE40-44BF-B06D-859F20A2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1A18-E6F0-4415-83ED-4172847E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5BDD-9641-4494-A6B9-1DE6AE9D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1B8D-7D7C-4955-A307-E2016F32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8B2F-CE87-45F0-9B39-28C582A735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66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Tyler Loftin &lt;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2209680" y="228600"/>
            <a:ext cx="38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Ravie"/>
              </a:rPr>
              <a:t>Poli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2133720" y="12193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avie"/>
              </a:rPr>
              <a:t>A Greek city-sta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http://t2.gstatic.com/images?q=tbn:ANd9GcTKLbmFwluVCLz_Hcjdpp1LGIW8XE4OPOUCNFMVghqU542Bv5Xw"/>
          <p:cNvPicPr/>
          <p:nvPr/>
        </p:nvPicPr>
        <p:blipFill>
          <a:blip r:embed="rId1"/>
          <a:stretch/>
        </p:blipFill>
        <p:spPr>
          <a:xfrm>
            <a:off x="0" y="3276720"/>
            <a:ext cx="6138720" cy="358128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6324480" y="3505320"/>
            <a:ext cx="2362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The city poli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2057400" y="3049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urlz MT"/>
              </a:rPr>
              <a:t>Philosoph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1828800" y="1371600"/>
            <a:ext cx="49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A study of wisdom and the right way to li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http://t1.gstatic.com/images?q=tbn:ANd9GcQw3-kKBUDUasy8zJbNxQ62OVzzkUsZVTB5AV_Y6HFVgp47bcd0"/>
          <p:cNvPicPr/>
          <p:nvPr/>
        </p:nvPicPr>
        <p:blipFill>
          <a:blip r:embed="rId1"/>
          <a:stretch/>
        </p:blipFill>
        <p:spPr>
          <a:xfrm>
            <a:off x="0" y="3352680"/>
            <a:ext cx="5502240" cy="350532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6019920" y="3200400"/>
            <a:ext cx="2514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A man speaking to an audience about Philosoph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2971800" y="6858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avie"/>
              </a:rPr>
              <a:t>Peninsul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1600200" y="167652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avie"/>
              </a:rPr>
              <a:t>An area of land nearly surrounded by wa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t0.gstatic.com/images?q=tbn:ANd9GcRLRwu9FbTtbR9TgVDWxhpZ0nlPnrJjfdNC1cisqC8BBvJPTcOj"/>
          <p:cNvPicPr/>
          <p:nvPr/>
        </p:nvPicPr>
        <p:blipFill>
          <a:blip r:embed="rId1"/>
          <a:stretch/>
        </p:blipFill>
        <p:spPr>
          <a:xfrm>
            <a:off x="1676520" y="2971800"/>
            <a:ext cx="54100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1828800" y="6094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urlz MT"/>
              </a:rPr>
              <a:t>Peloponnesian W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2209680" y="152388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The war between Athens and Spar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http://t3.gstatic.com/images?q=tbn:ANd9GcSyB9tTsn5OTZ5_kSDrcOShDZilqsTVE73O40WlxdJyjXI8QVqc"/>
          <p:cNvPicPr/>
          <p:nvPr/>
        </p:nvPicPr>
        <p:blipFill>
          <a:blip r:embed="rId1"/>
          <a:stretch/>
        </p:blipFill>
        <p:spPr>
          <a:xfrm>
            <a:off x="1447920" y="2743200"/>
            <a:ext cx="64767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2438280" y="53352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avie"/>
              </a:rPr>
              <a:t>Olig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1143000" y="137160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avie"/>
              </a:rPr>
              <a:t>The kind of government that is run by a small group of peop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http://t3.gstatic.com/images?q=tbn:ANd9GcQol48pt3NP0FV2hm5fx5RTIa7gQOJvJvDhSSQhppXEFAcgBVt7"/>
          <p:cNvPicPr/>
          <p:nvPr/>
        </p:nvPicPr>
        <p:blipFill>
          <a:blip r:embed="rId1"/>
          <a:stretch/>
        </p:blipFill>
        <p:spPr>
          <a:xfrm>
            <a:off x="2057400" y="3124080"/>
            <a:ext cx="4114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2590920" y="5335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urlz MT"/>
              </a:rPr>
              <a:t>Harb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2362320" y="1523880"/>
            <a:ext cx="373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A shelter place along a coast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://t2.gstatic.com/images?q=tbn:ANd9GcRG1ZXVDEo1kFfFh9k9CeXJT6WxHD03hwn5MhV5pPKpUAY5ai15"/>
          <p:cNvPicPr/>
          <p:nvPr/>
        </p:nvPicPr>
        <p:blipFill>
          <a:blip r:embed="rId1"/>
          <a:stretch/>
        </p:blipFill>
        <p:spPr>
          <a:xfrm>
            <a:off x="1905120" y="3429000"/>
            <a:ext cx="4724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523880" y="114300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Ravie"/>
              </a:rPr>
              <a:t>A large hill which the Greeks built their city-states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350px-Athens_Acropolis.jpg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urlz MT"/>
              </a:rPr>
              <a:t>Agora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295280" y="990720"/>
            <a:ext cx="6477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A  place where Greeks meet and conduct busine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agora.jpg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2286000" y="3808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avie"/>
              </a:rPr>
              <a:t>Assembl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209680" y="1523880"/>
            <a:ext cx="5334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Ravie"/>
              </a:rPr>
              <a:t>A lawmaking place where people voted on issues that helped their c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assembly Greece.jpg"/>
          <p:cNvPicPr/>
          <p:nvPr/>
        </p:nvPicPr>
        <p:blipFill>
          <a:blip r:embed="rId1"/>
          <a:stretch/>
        </p:blipFill>
        <p:spPr>
          <a:xfrm>
            <a:off x="0" y="2971800"/>
            <a:ext cx="9144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2"/>
          <p:cNvSpPr/>
          <p:nvPr/>
        </p:nvSpPr>
        <p:spPr>
          <a:xfrm>
            <a:off x="2971800" y="4572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urlz MT"/>
              </a:rPr>
              <a:t>Citize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1447920" y="1447920"/>
            <a:ext cx="670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A person who has certain rights and responsibilities to his or her count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citizen.jpg"/>
          <p:cNvPicPr/>
          <p:nvPr/>
        </p:nvPicPr>
        <p:blipFill>
          <a:blip r:embed="rId1"/>
          <a:stretch/>
        </p:blipFill>
        <p:spPr>
          <a:xfrm>
            <a:off x="1905120" y="3276720"/>
            <a:ext cx="495288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2819520" y="38088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Ravie"/>
              </a:rPr>
              <a:t>Colo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1295280" y="990720"/>
            <a:ext cx="670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avie"/>
              </a:rPr>
              <a:t>A group of people who lived apart from Greece but kept economic ties with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colonys.jpg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2666880" y="380880"/>
            <a:ext cx="36576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2971800" y="53352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urlz MT"/>
              </a:rPr>
              <a:t>Democrac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1676520" y="1676520"/>
            <a:ext cx="556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A form of government where people vote to make decis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"/>
          <p:cNvSpPr/>
          <p:nvPr/>
        </p:nvSpPr>
        <p:spPr>
          <a:xfrm>
            <a:off x="155520" y="-1455840"/>
            <a:ext cx="3809880" cy="30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democracy.bmp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2438280" y="380880"/>
            <a:ext cx="38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Ravie"/>
              </a:rPr>
              <a:t>Jur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2209680" y="114300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avie"/>
              </a:rPr>
              <a:t>They hear evidence and make decisions in a court of la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jury.bmp"/>
          <p:cNvPicPr/>
          <p:nvPr/>
        </p:nvPicPr>
        <p:blipFill>
          <a:blip r:embed="rId1"/>
          <a:stretch/>
        </p:blipFill>
        <p:spPr>
          <a:xfrm>
            <a:off x="1600200" y="3124080"/>
            <a:ext cx="6019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2438280" y="5335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urlz MT"/>
              </a:rPr>
              <a:t>Monarch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1752480" y="137160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urlz MT"/>
              </a:rPr>
              <a:t>Government headed by one rul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http://t0.gstatic.com/images?q=tbn:ANd9GcTQhPslD_ej1hCsNtaqWCAAVm3cpAxNlEfY34REiaV3NdteoJBn"/>
          <p:cNvPicPr/>
          <p:nvPr/>
        </p:nvPicPr>
        <p:blipFill>
          <a:blip r:embed="rId1"/>
          <a:stretch/>
        </p:blipFill>
        <p:spPr>
          <a:xfrm>
            <a:off x="1295280" y="2590920"/>
            <a:ext cx="58676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21:04:02Z</dcterms:modified>
  <cp:revision>100</cp:revision>
  <dc:subject/>
  <dc:title>Ancient Greece</dc:title>
</cp:coreProperties>
</file>